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A15-DA65-4258-99D9-4F69F67D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D5D-0A3F-4989-B568-C7B277AF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B88-5F0C-41E8-8C2D-EB8944FD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5C0-E90C-4097-AC65-AA7188DB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FDB3-1F1F-4E69-9A32-5DD92995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55D6-C273-4787-B700-6043C300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3CDB-27EC-4747-9FAD-6DBB9AB0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E676-1F80-49E4-A2D3-78A026FC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A592-49D0-4CD2-8823-3A4FFDF7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4B32-C73D-4A08-8CEC-D839C0E4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F951-F31A-470A-AC55-B2DE8568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3DE-6EAC-4157-B2DB-3DA7E86B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C8D2-DAAD-4DDC-BAFD-3BB27600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A3F1-4F43-45CB-A9D3-A5185868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2534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7C78-F246-4A8A-81D7-4E5EFB90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920E-9942-4505-B59B-3E1E81C3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2534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7D93-313D-4D04-BF74-5874A010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2A2-38EB-47F7-AC30-04F76A63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646C-9D57-4145-BF7D-9FE66CB2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496-F12F-4CCE-9752-77998144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FEA-C0D1-4480-9AB0-401D91E2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4C0-BFB4-470E-A6B3-F51E3D0D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534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71E-5850-4B16-9A25-7BDF9B19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534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315-878D-48CE-BA31-6015427A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171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CDCC-1117-40B1-8FA4-342057A7308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9600" cy="0"/>
          </a:xfrm>
          <a:prstGeom prst="line">
            <a:avLst/>
          </a:prstGeom>
          <a:ln w="38160">
            <a:solidFill>
              <a:srgbClr val="00cc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4B56-842A-4A9C-88DB-ABB19B452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o Tell The Good News”</a:t>
            </a:r>
            <a:br>
              <a:rPr sz="40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art 1</a:t>
            </a: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The Church Is Scattere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4038120"/>
            <a:ext cx="83059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1, Lesson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s 9:1-31; 22:1-16; 26:1-18; Gal. 1:13-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46-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3429000"/>
            <a:ext cx="8153280" cy="0"/>
          </a:xfrm>
          <a:prstGeom prst="line">
            <a:avLst/>
          </a:prstGeom>
          <a:ln w="38160">
            <a:solidFill>
              <a:srgbClr val="00cc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581280"/>
            <a:ext cx="7239240" cy="0"/>
          </a:xfrm>
          <a:prstGeom prst="line">
            <a:avLst/>
          </a:prstGeom>
          <a:ln w="38160">
            <a:solidFill>
              <a:srgbClr val="00cc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696D-F95D-4C52-B6D1-B9D2F5773764}" type="slidenum">
              <a:t>1</a:t>
            </a:fld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ul Obtained Mercy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1 Tim. 1:15-16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Timothy 1:15-16 (KJV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15] This is a faithful saying, and worthy of all acceptation, that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hrist Jesus came into the world to save sinne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of whom I am chief. [16] Howbeit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or this cause I obtained merc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that in me first Jesus Christ might shew forth all longsuffering, for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 pattern to them which should hereafter believ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n him to life everlast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973-38C9-4334-98AF-7136B939669E}" type="slidenum">
              <a:t>10</a:t>
            </a:fld>
          </a:p>
        </p:txBody>
      </p: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ul’s Condition</a:t>
            </a:r>
            <a:br>
              <a:rPr sz="40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8-12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inded by the l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d into Damas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there three days and did not eat or dr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pray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ived a vision about a man who would come to him and restore his s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FCD-1BA0-4251-8ACB-B507A1BE3C71}" type="slidenum">
              <a:t>11</a:t>
            </a:fld>
          </a:p>
        </p:txBody>
      </p:sp>
    </p:spTree>
  </p:cSld>
  <p:transition spd="med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anias</a:t>
            </a:r>
            <a:br>
              <a:rPr sz="40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10-17; 22:12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Jewish disciple at Damas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a good report of all the Jews which lived t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devout man according to the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ew of Saul’s reputation in Jerusalem and the “special” authority he had from the chief prie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ived a vision from the L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3FDB-17C6-4D45-ACAF-5610B3056E59}" type="slidenum">
              <a:t>12</a:t>
            </a:fld>
          </a:p>
        </p:txBody>
      </p:sp>
    </p:spTree>
  </p:cSld>
  <p:transition spd="med">
    <p:comb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ul’s Conversion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17-18; 22:12-16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nias found Sa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put his hands on Sa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ul regained his sight, 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filled with the Holy Gh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nias told Sau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tar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ise, be baptized and wash away your s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l on the name of the L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CA8-517B-4233-BBB0-901320AFD2D0}" type="slidenum">
              <a:t>13</a:t>
            </a:fld>
          </a:p>
        </p:txBody>
      </p:sp>
    </p:spTree>
  </p:cSld>
  <p:transition spd="med">
    <p:comb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ul’s Conversion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18-19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 followed the Lord’s instru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arose and was baptiz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ate and regained his streng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stayed several days with the disciples in Damas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E5CE-2CDD-47DB-B15B-8FBEEBCDD333}" type="slidenum">
              <a:t>14</a:t>
            </a:fld>
          </a:p>
        </p:txBody>
      </p:sp>
    </p:spTree>
  </p:cSld>
  <p:transition spd="med">
    <p:comb dir="horz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fter Saul’s Baptism…</a:t>
            </a:r>
            <a:br>
              <a:rPr sz="40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19-31; Gal. 1:13-2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ached Jesus in Damas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amazed every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grew in streng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proved that Jesus was the Chr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nt to Arab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do not know for how long or w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nt back to Damas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ed preaching and made disci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ws plotted to kill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BA6-128C-4362-B089-5DE9BC063284}" type="slidenum">
              <a:t>15</a:t>
            </a:fld>
          </a:p>
        </p:txBody>
      </p:sp>
    </p:spTree>
  </p:cSld>
  <p:transition spd="med">
    <p:comb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ul Escapes To Jerusalem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23-26; Gal. 1:13-2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caped the plot to kill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isciples hel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urned to Jerusa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years had pas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d with Peter for fifteen d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rethren were afraid of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did not believe him to be a true disci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697-2DBD-4DA5-ABA0-51748AE991B1}" type="slidenum">
              <a:t>16</a:t>
            </a:fld>
          </a:p>
        </p:txBody>
      </p:sp>
    </p:spTree>
  </p:cSld>
  <p:transition spd="med">
    <p:comb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arnabas Defends Saul </a:t>
            </a:r>
            <a:br>
              <a:rPr sz="40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27-29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ed to the apostles how Saul was conver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 was then accepted and even preached in Jerusa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debated with the Grecian J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plotted to kill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3E0-2F60-48BB-81A0-6BEA8D923D7C}" type="slidenum">
              <a:t>17</a:t>
            </a:fld>
          </a:p>
        </p:txBody>
      </p:sp>
    </p:spTree>
  </p:cSld>
  <p:transition spd="med">
    <p:comb dir="horz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ul Forced To Flee Again</a:t>
            </a:r>
            <a:br>
              <a:rPr sz="40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30-31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been in Jerusalem only 15 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ethren took him to Tarsus of Cili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homet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isciples (churches) in Judea, Galilee and Samaria had peac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urches were edified and grew in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F43-E7CC-4C55-A29E-CED28D7C725B}" type="slidenum">
              <a:t>18</a:t>
            </a:fld>
          </a:p>
        </p:txBody>
      </p:sp>
    </p:spTree>
  </p:cSld>
  <p:transition spd="med">
    <p:comb dir="horz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F52-7D8B-4A39-86B4-7A1FFF3445F5}" type="slidenum">
              <a:t>2</a:t>
            </a:fld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ul, The Persecutor</a:t>
            </a:r>
            <a:br>
              <a:rPr sz="40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1-19; 22:1-16; 26:1-18; Gal. 1:13-17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 in the effort to persecute Christi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ed others to blaspheme the name of Chr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t saints in pri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st his vote to kill Christi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full authority from the Sanhedr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nded his persecution activities well beyond Jerusalem – to Damas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0CB6-A79D-4864-83D6-497A18E176A1}" type="slidenum">
              <a:t>3</a:t>
            </a:fld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ul, The Persecutor</a:t>
            </a:r>
            <a:br>
              <a:rPr sz="40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22:4-5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admitted his role in persecuting Christi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s 22:4-5 (KJV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4] And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 persecuted this way unto the dea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binding and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delivering into prisons both men and women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[5] As also the high priest doth bear me witness, and all the estate of the elders: from whom also I received letters unto the brethren, and went to Damascus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o bring them which were there bound unto Jerusalem, for to be punish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814-F7FE-42B1-AC4A-555EF311F04D}" type="slidenum">
              <a:t>4</a:t>
            </a:fld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aul, The Persecutor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Gal. 1:13-17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latians 1:13-14 (KJV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13] For ye have heard of my conversation in time past in the Jews' religion, how that beyond measure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 persecuted the church of God, and wasted i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[14] And profited in the Jews' religion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bove many my equal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 mine own nation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being more exceedingly zealo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traditions of my fath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AF2-A62C-4B73-A4F1-51A0384CDEE5}" type="slidenum">
              <a:t>5</a:t>
            </a:fld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Jesus Selects Saul To Be An Apostle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Acts 9:3-7; 22:6-8; 26:12-18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traveled with compa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reat light suddenly shined upon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voice spoke to Sau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ul, Saul, why are you persecuting me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hard to kick against the ox-goa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, “Who are you, Lord?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ply, “I am the Jesus of Nazareth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3FE-875D-4261-BE86-498A13BF5A68}" type="slidenum">
              <a:t>6</a:t>
            </a:fld>
          </a:p>
        </p:txBody>
      </p:sp>
    </p:spTree>
  </p:cSld>
  <p:transition spd="med"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Jesus Tells Saul Why...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9:15-16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end him to the Gent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said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cts 9:15-16) (KJV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15] But the Lord said unto him, Go thy way: for he is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 chosen vesse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o me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o bear my name before the Genti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nd kings, and the children of Israel: [16] For I will shew him how great things he must suffer for my name's sak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E3E-7B31-42C2-BB36-F5E1676E1F09}" type="slidenum">
              <a:t>7</a:t>
            </a:fld>
          </a:p>
        </p:txBody>
      </p:sp>
    </p:spTree>
  </p:cSld>
  <p:transition spd="med"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Jesus Tells Saul Why...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22:14-15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end him to the Gent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said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cts 22:14-15) (KJV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14] And he said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e God of our fathers hath chosen thee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a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ou shouldest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now his wil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e that Just O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uldest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hear the voice of his mou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15] For thou shalt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be his witness unto all m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thou hast seen and hear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AB6-5E12-4F0F-9327-174F4C69ABC5}" type="slidenum">
              <a:t>8</a:t>
            </a:fld>
          </a:p>
        </p:txBody>
      </p:sp>
    </p:spTree>
  </p:cSld>
  <p:transition spd="med">
    <p:comb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Jesus Tells Saul Why...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Acts 26:16-18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end him to the Gent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said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cts 26:16-18) (KJV)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[16]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ut rise, and stand upon thy feet: for I have appeared unto the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for this purpos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to make thee a ministe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a witness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both of these things which thou hast seen, and of those things in the which I will appear unto thee; [17] Delivering thee from the people, and </a:t>
            </a: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from the Gentiles, unto whom now I send the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, [18] </a:t>
            </a: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To open their eyes, and to turn them from darkness to light, and from the power of Satan unto God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, that they may receive forgiveness of sins, and inheritance among them which are sanctified by faith that is in me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C0A5-70BB-4B50-A96F-AB5E8741453A}" type="slidenum">
              <a:t>9</a:t>
            </a:fld>
          </a:p>
        </p:txBody>
      </p:sp>
    </p:spTree>
  </p:cSld>
  <p:transition spd="med">
    <p:comb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9:03:39Z</dcterms:created>
  <dc:creator>Don Vines</dc:creator>
  <dc:description/>
  <dc:language>en-US</dc:language>
  <cp:lastModifiedBy>Frank D Vines</cp:lastModifiedBy>
  <dcterms:modified xsi:type="dcterms:W3CDTF">2007-01-31T22:51:35Z</dcterms:modified>
  <cp:revision>17</cp:revision>
  <dc:subject/>
  <dc:title>Slide 1</dc:title>
</cp:coreProperties>
</file>